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1E28-CD83-4E50-A783-7971A694D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ntion? Who gets the attribution?  Does it ma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recent revie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ppropriate use of time?  Cost-benefit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A32E-8BB5-44C1-A3DE-FCAC0906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53C-0D14-416B-B1C4-8420CFB2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7AE0-7BA1-4511-AC77-9402234E7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E0B5-326C-42E3-A3AD-AA882AC8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EEBF-E96C-4672-98AB-1DE238DD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5525-494F-4472-90D0-4A01773E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87C-FF58-4177-99BC-F287E2DB6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9D4-7B3F-45B9-A9C1-DE44B869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DB8-8B5E-4D14-8571-020B630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B95-93D7-4CFC-8896-1B38AABE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FC78-E534-4863-8E2E-5AB7CDDE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71A-089E-4A27-8CB5-9C1D102FA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1FC6-B67F-499B-B258-CDF3019A1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enotype Annotation at TAI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ya Berardi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types are associated to organisms (germplasms) and linked to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ation is mainly done in unstructured full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lot study of structured annotation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O not yet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6876" t="21093" r="23126" b="36720"/>
          <a:stretch/>
        </p:blipFill>
        <p:spPr>
          <a:xfrm>
            <a:off x="609480" y="762120"/>
            <a:ext cx="7848720" cy="4414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9376" t="12500" r="20625" b="5467"/>
          <a:stretch/>
        </p:blipFill>
        <p:spPr>
          <a:xfrm>
            <a:off x="1030320" y="76320"/>
            <a:ext cx="6132600" cy="670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9377" t="18749" r="15001" b="17188"/>
          <a:stretch/>
        </p:blipFill>
        <p:spPr>
          <a:xfrm>
            <a:off x="0" y="380880"/>
            <a:ext cx="8991720" cy="609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55" name=""/>
          <p:cNvGrpSpPr/>
          <p:nvPr/>
        </p:nvGrpSpPr>
        <p:grpSpPr>
          <a:xfrm>
            <a:off x="4495680" y="3048120"/>
            <a:ext cx="2894040" cy="703080"/>
            <a:chOff x="4495680" y="3048120"/>
            <a:chExt cx="2894040" cy="703080"/>
          </a:xfrm>
        </p:grpSpPr>
        <p:sp>
          <p:nvSpPr>
            <p:cNvPr id="56" name=""/>
            <p:cNvSpPr/>
            <p:nvPr/>
          </p:nvSpPr>
          <p:spPr>
            <a:xfrm>
              <a:off x="4800600" y="31399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48320" y="3292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648320" y="3444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95680" y="3597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99320" y="3048120"/>
              <a:ext cx="239040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papilla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tyle:abnorm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septum development:incomple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urier New"/>
                </a:rPr>
                <a:t>leaf:ser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e challenges as other datab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corpus of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number of curators with many diverse 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ways of paper priorit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apturing phenotypes from the literatur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single aspect of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 paper, describing multiple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 describing different aspects of the organism’s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papers, describing the same pheno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oring complex annotations in the data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ght now, GO as a model for assocatio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ne product + 1 CV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we deal with multiple ontologies in one associ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association = 1 germplasm + 1 anatomy term + 1 PATO term (+ oth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20:13:25Z</dcterms:created>
  <dc:creator>tberardi</dc:creator>
  <dc:description/>
  <dc:language>en-US</dc:language>
  <cp:lastModifiedBy>Mark Berardini</cp:lastModifiedBy>
  <dcterms:modified xsi:type="dcterms:W3CDTF">2006-12-01T23:21:29Z</dcterms:modified>
  <cp:revision>33</cp:revision>
  <dc:subject/>
  <dc:title>PATO exercise at TAIR</dc:title>
</cp:coreProperties>
</file>